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113-7C1F-4E68-BF40-29868BC1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95A-0BED-4CF3-877C-565C77F8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FED-5368-4158-A0BF-2C496BDA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E12-5A80-4456-A7EA-BE832D85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87F-3BDE-420B-B9DE-C54E9035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85B-39D8-4F7E-ABD4-4BB90A0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74FF-5103-4C1B-A48E-D97923A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CA04-0007-491A-8CB3-C1280AEA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27E1-F252-4E32-B93A-5486D51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CBCB-3047-4DAD-AC88-21A0115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5746-6CC7-4BD0-8D71-AE6A6D4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6ED-E9FD-4E88-87E6-796C1D3D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5AA-EB2E-4955-8278-B224F15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3E10-D5FA-4193-96D8-0E69647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EAB1-A41A-481A-85E5-1C28384F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B41-4C62-4376-BCEA-60738E44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4C6-5FF9-42E2-ACBD-DAD0AF05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DD8-4237-45DB-9F35-E9A1BA8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154-5DF0-40AC-85C1-CE35B69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144-BF3E-4CE4-B43C-31ED18E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3AB-5611-4963-BEEA-695CF61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451-2E81-43AA-83A3-8B324E8A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980-A889-44DF-96B8-DD9FAF04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F1D-AC32-4116-B356-BEF88BB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DC9-A08D-4D43-B57E-F259DA8898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356-6725-4E82-9AB2-FA2C31E414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TS for Administrators 200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ttp://www.iste.org/Content/NavigationMenu/NETS/ForAdministrators/2002Standards/NETS_for_Administrators_2002_Standards.ht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enter: Eric Pot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vember 5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engage in professional learning activities using technology re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are aware of emerging technolog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. use technology to advance organizational improv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ensure the integration of technology to support productive systems for learning and administrat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implement guidelines to ensure compatibility of technolog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use integrated tech-based management/operations syste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allocate financial/human resources for implementation of technology pl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pport, Management, and Oper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integrate district plans (strategic, technology, curriculum) to align efforts/resour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implement procedures to maintain/update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ssessment and Evalu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use technology to plan and implement comprehensive systems of effective assessment and evaluat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ssessment and Evalu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assess and evaluate appropriate uses of technolog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use technology to analyze data, improve instruction/student lear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assess staff knowledge, skills, and performance as basis for professional developme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assess, evaluate, manage administrative/operational syst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understand the social, legal, and ethical issues related to technology and model responsible decision making related to these issues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ensure equity of acc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promote responsible use of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promote privacy, security, and online safe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cial, Legal, and Ethical Issu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promote environmentally safe and healthy practic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develop policies that enforce copyright law/assign ownership of intellectual proper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urtesy: ISTE NETS for Administrato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ttp://www.iste.org/Content/NavigationMenu/NETS/ForAdministrators/2002Standards/NETS_for_Administrators_2002_Standards.ht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inspire a shared vision for comprehensive integration of technology and foster an environment and culture conducive to the realization of that vision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. facilitate/communicate a shared vision for technology us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. develop, implement, and monitor a technology pla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foster risk-taking and innovat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. use data in decision-making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dership and Vis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advocate effective practices in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. advocate for implementation of Everett’s technology pl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ucational leaders ensure that curricular design, instructional strategies, and learning environments integrate appropriate technologies to maximize learning and teaching. Educational leader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1397160"/>
            <a:ext cx="4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. identify, use, evaluate, and promote technologies to support instruction and student achievemen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. facilitate/support collaborative learning environments conducive to innovation for improved learning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provide environments that use technology to meet the needs of learner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.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arning and Teac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use technology to support/enhance instructional methods that develop high-level thinking, decision-making, and problem solv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 provide professional learning opportunities for faculty and staff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ducational leaders apply technology to enhance their professional practice and to increase their own productivity and that of others. Educational leader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II. Productivity and Professional Practi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model effective use of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employ technology for communica-tion throughout school communit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create/participate in learning communities that support faculty/staff in using technolog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4:18:33Z</dcterms:created>
  <dc:creator>ehs user</dc:creator>
  <dc:description/>
  <dc:language>en-US</dc:language>
  <cp:lastModifiedBy>ehs user</cp:lastModifiedBy>
  <cp:lastPrinted>2008-10-24T15:32:40Z</cp:lastPrinted>
  <dcterms:modified xsi:type="dcterms:W3CDTF">2008-10-24T15:33:18Z</dcterms:modified>
  <cp:revision>51</cp:revision>
  <dc:subject/>
  <dc:title>PowerPoint Presentation</dc:title>
</cp:coreProperties>
</file>